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C39-F81A-4B30-9F42-C32FCB4F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E1E-D0D1-4AE6-B6B1-7D1DF17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074-AA5D-4739-AC7A-6C2217C2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34E-CC8C-4205-AD9D-8BD68B8D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7656-7B8F-4124-8504-F30FBA2C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C656-45AE-4176-B806-6274DB3B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D62B-EC73-49C2-B2FF-183A7924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4DB5-DC6E-4FC3-9C02-0F0CD59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A719-ACEB-40D3-ACE0-453AA2D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61C7-4B93-422F-970D-4EAB85B8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4C05-6B1C-4B52-958F-99C7AFD0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C46-4352-4CED-9340-CABC5071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9A0-AB65-48B0-AA76-DBDD590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3268-6129-44AF-B54B-FC3BADD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4F64-7597-4C84-8E26-F321E7C6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E12D-3B7C-4027-BE8E-CFF99730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E3D2-0FC8-4BB8-BAE2-06C2C284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83AD-506B-494F-B32E-6691BAC1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0D91-4BCF-4611-8DE6-88A2DC7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BB94-401F-4E8F-9996-33B61175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7CE6-3B3E-4736-BDCB-CCE58A7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A0EC-E3F3-48FB-8D66-8269E9C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DE4-E918-4079-86DF-367E6662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84B3-997D-4DEA-9AA5-84281D7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EF25-36EE-4C95-B42D-65BBC3E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B0772-97CC-40B6-A035-E47DF5F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EED7-A999-4342-BAF6-0FAF6D09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5E43-DED4-42DB-B65F-E5C44A9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3884-33ED-4988-BD1B-A09666C2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BB1F-A773-449D-944D-CDB54402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7ACC-87FD-409E-BE13-1CB5934C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72F0-F699-420F-BCAA-BC12B0E1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FC48-7A0B-49F1-85B9-B15FB94F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F34-B85F-4BCC-B212-A5C98726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E82C-8557-497E-BF83-810FBAF3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CCE3-DF90-415D-B4B7-8A2614E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5BF9-8967-481E-BAF7-A3FB996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441E-8918-461E-BB08-B27B6639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52D2-01E2-4B2A-9B36-5E064C6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6635-E245-4941-86F9-1851D25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A41C-AEB5-4989-A551-8380F86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32FD-FC24-42C2-8BE5-AD648318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2889-06A2-4A00-A630-26A9E1DA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48D54-38AF-4C5F-AE5A-27458620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A3A-4F31-4A73-98B1-21432995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E1251-374C-439C-AAD0-DFCA865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070B-1973-4BD3-AFF2-BC7B52F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C8352-0377-4534-ABD3-DFC4E397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D9A2-F209-4DD8-B98B-18B49BFB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FB53-AB6D-4455-A8D4-4CCD05A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8645-6D02-467D-A8A9-DF74F6B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66992-3FB5-4482-94DC-5521675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C118-79AB-4A20-8A3C-E83E504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77B6E-508E-4DF4-94E3-D67D6B7F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3640C-31BB-4896-9B36-AFD1205B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581-F768-4568-88E4-36F8DA27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6504B-61D3-4262-8581-58056F01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B84-73F1-43D3-A3B5-2929D2FD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2E8-ECBA-46CB-9CFC-34648A9C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23A-7A60-4614-8C84-274E39E1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4C8-5E9C-4432-9B27-AAA4705E3C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782D-67CC-480E-83D1-67F6FFD729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A88C-0D5D-4C89-A160-460971C74BD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DAA1-48A2-4E10-85F8-16997AA599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92FE-F2AE-4EBB-93F4-D08C0BA0F9D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85480" y="27144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Perpetua"/>
              </a:rPr>
              <a:t>The Guest Room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7168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HOTEL MANAGEMEN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30" name="Picture 13" descr="j0217872[1]"/>
          <p:cNvPicPr/>
          <p:nvPr/>
        </p:nvPicPr>
        <p:blipFill>
          <a:blip r:embed="rId1">
            <a:grayscl/>
          </a:blip>
          <a:stretch/>
        </p:blipFill>
        <p:spPr>
          <a:xfrm>
            <a:off x="5857920" y="3429000"/>
            <a:ext cx="2905200" cy="292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Melior_Business_School.PNG"/>
          <p:cNvPicPr/>
          <p:nvPr/>
        </p:nvPicPr>
        <p:blipFill>
          <a:blip r:embed="rId2"/>
          <a:stretch/>
        </p:blipFill>
        <p:spPr>
          <a:xfrm>
            <a:off x="285840" y="6072120"/>
            <a:ext cx="15001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2roomlayou.jpg"/>
          <p:cNvPicPr/>
          <p:nvPr/>
        </p:nvPicPr>
        <p:blipFill>
          <a:blip r:embed="rId1"/>
          <a:stretch/>
        </p:blipFill>
        <p:spPr>
          <a:xfrm>
            <a:off x="590400" y="233280"/>
            <a:ext cx="812484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uite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uite configur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volves larger rooms (in terms of square footag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y definition the suite must only be larger than the standard and may not include greater levels of service or ameniti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rying sizes of suites allow the hotel to charge higher rates for bigger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PHXSPPR_Pointe_Hilton_Squaw_Peak_Resort_accom_executive.jpg"/>
          <p:cNvPicPr/>
          <p:nvPr/>
        </p:nvPicPr>
        <p:blipFill>
          <a:blip r:embed="rId1"/>
          <a:stretch/>
        </p:blipFill>
        <p:spPr>
          <a:xfrm>
            <a:off x="214200" y="82440"/>
            <a:ext cx="871560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uite Configuration (Cont…)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ites are identified by their size in relation to the standard configuration and the names may differ from hotel to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 example of how the suite names may change respective to the room size is as follow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nr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orner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-level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Hospitality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esidential Suit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acc_hospitality.jpg"/>
          <p:cNvPicPr/>
          <p:nvPr/>
        </p:nvPicPr>
        <p:blipFill>
          <a:blip r:embed="rId1"/>
          <a:stretch/>
        </p:blipFill>
        <p:spPr>
          <a:xfrm>
            <a:off x="357120" y="250920"/>
            <a:ext cx="814392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floor-plan-presidential-suite.jpg"/>
          <p:cNvPicPr/>
          <p:nvPr/>
        </p:nvPicPr>
        <p:blipFill>
          <a:blip r:embed="rId1"/>
          <a:stretch/>
        </p:blipFill>
        <p:spPr>
          <a:xfrm>
            <a:off x="357120" y="177840"/>
            <a:ext cx="828684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Room Configurations and Target Markets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configurations remain constant amongst all hotel target marke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tandard configuration is the category of guest room that is the most prevalent at a specific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suite hotels have enhanced configurations and larger suites as we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ended stay target market also uses the same philosoph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isabled Access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bled access configurations include rooms that are equipped to make the overnight stay of the disabled guest more pleasant and may include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aised bed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ider doorway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ecommunication Devi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oice activated dialing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cks with larger, brighter numb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osed caption televisio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evated toile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Disabled Access Configuration (Cont…)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isabled configuration equipment continued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athrooms equipped with metal handrail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ll in shower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Visual alert smoke detectors, door knocks, telephones and alarm clock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Designation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nal remaining identifier for room categories is 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oom design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ich identifies whether it is a smoking or nonsmoking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early 1980’s hotels began to convert a portion of their sleeping rooms to permanently nonsmoking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hotels particularly in North America are now 100% non smo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onten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ategorizing the guest roo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uest Room Make Up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Key Control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Review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Preferenc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oom type, configuration and designation all come together to create the specific room a hotel guest may seek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348000" y="4653000"/>
            <a:ext cx="398520" cy="1162080"/>
          </a:xfrm>
          <a:custGeom>
            <a:avLst/>
            <a:gdLst>
              <a:gd name="textAreaLeft" fmla="*/ 53280 w 398520"/>
              <a:gd name="textAreaRight" fmla="*/ 345240 w 398520"/>
              <a:gd name="textAreaTop" fmla="*/ 203400 h 1162080"/>
              <a:gd name="textAreaBottom" fmla="*/ 842760 h 11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AutoShape 7"/>
          <p:cNvSpPr/>
          <p:nvPr/>
        </p:nvSpPr>
        <p:spPr>
          <a:xfrm flipH="1">
            <a:off x="5002920" y="3645000"/>
            <a:ext cx="398520" cy="1224000"/>
          </a:xfrm>
          <a:custGeom>
            <a:avLst/>
            <a:gdLst>
              <a:gd name="textAreaLeft" fmla="*/ 53280 w 398520"/>
              <a:gd name="textAreaRight" fmla="*/ 345240 w 3985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8"/>
          <p:cNvSpPr/>
          <p:nvPr/>
        </p:nvSpPr>
        <p:spPr>
          <a:xfrm>
            <a:off x="3276720" y="2852640"/>
            <a:ext cx="398520" cy="1162080"/>
          </a:xfrm>
          <a:custGeom>
            <a:avLst/>
            <a:gdLst>
              <a:gd name="textAreaLeft" fmla="*/ 53280 w 398520"/>
              <a:gd name="textAreaRight" fmla="*/ 345240 w 398520"/>
              <a:gd name="textAreaTop" fmla="*/ 203400 h 1162080"/>
              <a:gd name="textAreaBottom" fmla="*/ 842760 h 11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492360" y="2852640"/>
            <a:ext cx="187164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Typ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Configu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Room Desig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504d"/>
                </a:solidFill>
                <a:latin typeface="Verdana"/>
              </a:rPr>
              <a:t>Guestroom Preferen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2"/>
          <p:cNvSpPr/>
          <p:nvPr/>
        </p:nvSpPr>
        <p:spPr>
          <a:xfrm flipV="1">
            <a:off x="5148360" y="2781360"/>
            <a:ext cx="1008000" cy="21744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2700360" y="4149720"/>
            <a:ext cx="936720" cy="28728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5148360" y="4797360"/>
            <a:ext cx="1008000" cy="216000"/>
          </a:xfrm>
          <a:prstGeom prst="line">
            <a:avLst/>
          </a:prstGeom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156360" y="2732040"/>
            <a:ext cx="1224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i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Qua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156360" y="4653000"/>
            <a:ext cx="1224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mo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smo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1330200" y="4149720"/>
            <a:ext cx="17290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hanced Su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bles Ac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Numberin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gning guest room numbers is the identification method hotels have used for most of histor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ypically, odd numbers are on one side of the floor, even numbers on the othe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ever pattern is begun with the initial guest rooms floor, it is carried on throughout the remainder of the floo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equential Room Numberin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853920" y="3287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853920" y="44308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8"/>
          <p:cNvSpPr/>
          <p:nvPr/>
        </p:nvSpPr>
        <p:spPr>
          <a:xfrm flipV="1">
            <a:off x="230184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9"/>
          <p:cNvSpPr/>
          <p:nvPr/>
        </p:nvSpPr>
        <p:spPr>
          <a:xfrm flipV="1">
            <a:off x="51213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37497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11"/>
          <p:cNvSpPr/>
          <p:nvPr/>
        </p:nvSpPr>
        <p:spPr>
          <a:xfrm flipV="1">
            <a:off x="6721560" y="2144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12"/>
          <p:cNvSpPr/>
          <p:nvPr/>
        </p:nvSpPr>
        <p:spPr>
          <a:xfrm>
            <a:off x="131112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5578560" y="3287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14"/>
          <p:cNvSpPr/>
          <p:nvPr/>
        </p:nvSpPr>
        <p:spPr>
          <a:xfrm>
            <a:off x="428292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2759040" y="3287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7178760" y="3287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131112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275904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428292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Line 20"/>
          <p:cNvSpPr/>
          <p:nvPr/>
        </p:nvSpPr>
        <p:spPr>
          <a:xfrm>
            <a:off x="5730840" y="4430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21"/>
          <p:cNvSpPr/>
          <p:nvPr/>
        </p:nvSpPr>
        <p:spPr>
          <a:xfrm flipV="1">
            <a:off x="237816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22"/>
          <p:cNvSpPr/>
          <p:nvPr/>
        </p:nvSpPr>
        <p:spPr>
          <a:xfrm flipV="1">
            <a:off x="390204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23"/>
          <p:cNvSpPr/>
          <p:nvPr/>
        </p:nvSpPr>
        <p:spPr>
          <a:xfrm flipV="1">
            <a:off x="519732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4"/>
          <p:cNvSpPr/>
          <p:nvPr/>
        </p:nvSpPr>
        <p:spPr>
          <a:xfrm flipV="1">
            <a:off x="6797520" y="4430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25"/>
          <p:cNvSpPr/>
          <p:nvPr/>
        </p:nvSpPr>
        <p:spPr>
          <a:xfrm>
            <a:off x="865080" y="2160720"/>
            <a:ext cx="7162920" cy="3429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26"/>
          <p:cNvSpPr/>
          <p:nvPr/>
        </p:nvSpPr>
        <p:spPr>
          <a:xfrm>
            <a:off x="2630520" y="3695760"/>
            <a:ext cx="34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st Floor Guest Room Corri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1143000" y="2486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10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10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1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1143000" y="47721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10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1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8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1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Status Reconcili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status reconciliation is defined as ensuring that rooms are properly designated by their current status and assigned a new status as it chang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oth housekeeping and the front desk maintain room statu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s status categories/designations are groups by the guest room’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Occupancy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cleanlines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tate of excep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te of Occupancy</a:t>
            </a: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ccupi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applies to a room that has been assigned to a guest and that guest has checked 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Vacan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the guest has checked out of the roo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the room is available for new occupa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497d"/>
                </a:solidFill>
                <a:latin typeface="Franklin Gothic Book"/>
              </a:rPr>
              <a:t>State of Cleanliness &amp; Exception</a:t>
            </a:r>
            <a:endParaRPr b="0" lang="en-US" sz="34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te of Cleanlines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has two categori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Dirt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room has not been cleaned by housekeep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room has been cleaned but not yet verified as cle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te of Exception –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was removed from inventory for a specific reason (e.g. repairs or renova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Status Cod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3203640" y="1844640"/>
          <a:ext cx="17002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844640"/>
                    <a:ext cx="17002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Line 5"/>
          <p:cNvSpPr/>
          <p:nvPr/>
        </p:nvSpPr>
        <p:spPr>
          <a:xfrm flipV="1">
            <a:off x="4500720" y="5792400"/>
            <a:ext cx="13665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5867280" y="2708280"/>
            <a:ext cx="0" cy="308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4643280" y="2706840"/>
            <a:ext cx="1224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3200400" y="2448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3200400" y="3514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3200400" y="4429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3200400" y="5495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276720" y="1758960"/>
            <a:ext cx="1439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Status Cyc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667640" y="595008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gure 4-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uest Room Makeup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for sale is a place to sleep, so all guest rooms have a bed of some kind and the other universal items in a guest room are phone, television and a bat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tels are given industry ratings based in part on the makeup of their guest rooms and what is inside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tandard configuration of every hotel room always contains the universal ite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ndard Configuration Item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work station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ull out sofa beds or Murphy be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ne or more night stan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anity area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ffee mak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rons and ironing boar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saf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set/dress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Blackout drap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lock radio or alar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Hotel collatera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lection of local director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Phones with message ligh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everal chains offer retrieval of written messages on a CCTV channel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In-room movi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Video games may be availabl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Data por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lasses and ice bucke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Mini ba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Complimentary newspaper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Key Control System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ey control systems are used to ensure guest safety by changing the access to a guest room between gues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ey control systems evolved into systems that were easy to replace with key card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se key cards are reprogrammed for each new guest and if the card is lost it can be erased easi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ost key cards pose no security risk as there is no room number printed on the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ategorizing the Guest Room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Typ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Configur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Design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Number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 Status Reconcili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Type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Room types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re based on the intended number of occupan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andard type is based on one occupant – this is called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ingle occupanc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ten single occupancy rooms have a lower rate than those with two guests in a room,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lle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double occupancy room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Tripl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quad occupancy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ooms are for three and four guests respectivel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Room Configuration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oom configuratio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characterise the physical make up of a guest room, therefore looking at differences in guest rooms within a particular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oom configurations are an important aspect of how a hotel will determine the sleeping room r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fering guests an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upgra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llows the hotel the potential for increased room reven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Standard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tandard configura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s defined as the room configuration that makes up the majority of the sleeping rooms at a particular hote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 hotels refer to their standard configuration as 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run of house (ROH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un of house rooms are understood to be the greatest number of available roo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new trend has standard rooms being referred to as “deluxe” or “superior” rooms which can be perceived as added valu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Content Placeholder 3" descr="queendblroom.gif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nhanced Configur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enhanced configur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the next level up from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understood to include more amenities and services than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metimes called a “concierge” or “business level” room, these rooms carry a higher room rate than the standard configur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Enhanced Configuration (Cont.)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rooms offer everything the standard room do plus extra services/ amenities which may includ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soft go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hard good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Upgraded ameniti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ems targeted to the business travell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ccess to a private lou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2T03:31:06Z</dcterms:modified>
  <cp:revision>118</cp:revision>
  <dc:subject/>
  <dc:title>FRONT OFFICE OPERATIONS MANAGEMENT</dc:title>
</cp:coreProperties>
</file>